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24C-9183-4508-95EB-A1B2F264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6C2-7DAE-4FFE-806E-AF19CBB2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915-BC59-4F49-ACD7-8D857798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FB1D-EEAA-429A-8446-7417A8B9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8D04-C735-4A25-B0F0-661D5E45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8179-3F1C-421D-B4B1-E83CE217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F566-6D32-45C1-9A07-6EAEA202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7DF0-724C-4D4A-9E01-5B6D2BD1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88ED-BD29-4380-9341-D0D40E82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AF89-E880-4233-A2BA-1832E994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2379-0AAA-476E-9EE1-0F0582BA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F7A-F7F7-40A8-B77A-958D2232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3470-3880-4EE8-A678-99B3253D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F9D2-1956-4F0E-883C-8F7C1B04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827E-871F-45B2-88F9-954D6307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BE38-BA33-484C-B6B2-68F83D06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82F4-13A0-4F6D-B1F2-98BF1DF0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446-1067-4BB5-9EB8-FBA1657F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E32-A8D1-453A-9F69-6EB3F289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803-8DFD-4B46-A674-592B58CC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B80-D11C-4B5A-873A-45C2FDC3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7129-270A-490D-B36E-E3168FA7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B0F9-4E86-41E8-BD3B-AD343B93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737-B03A-43CF-B7ED-4B0FAC75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9333-5DDB-43EB-8964-ED4839AC0920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C18A-F3C6-4568-AC7D-97C627246606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Comic Sans MS"/>
              </a:rPr>
              <a:t>The Cold Wa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BRRRRR . . . 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ust kidding, it had nothing to do with the temperature ;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WII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uring WWII the Soviet Union and the United States were on the SAME SIDE, the Allied power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 what happened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though the countries worked together during the war, after the war was over both countries had very different ideas of what should happe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alta Conference 1945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 the Yalta Conference in 1945 the Allied Powers tried to come up with a compromise as to what should be done with Europe and its changing border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US and the Soviet Union were two of the MOST influential voic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15328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United States wanted to help rebuild Germany.  They thought that it was important for Germany to become an industrialized nation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Soviet Union wanted to disarm Germany, so that they could NEVER become powerful again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What does that sound like?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mmunism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munism (which is a type of government / socialist system) was spreading throughout Europe at the same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US was afraid that Communism was going to make its way over to America ; this was NOT OK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munism went against EVERY basic American principl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Start of the Cold Wa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ll there really wasn’t a start of the cold war, it pretty much STARTED as WWII was end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 also never really was a WAR, that’s why it was called the COLD war because no fighting really took plac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EVER the Korean War (NOT A COLD WAR a VERY HOT ONE) was fought because of the Cold Wa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Cold War Continu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Cold War went on for quite a while, it was kind of like a stand off between Non - Communist US and the Communist Soviet Un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th countries owned DEADLY nuclear weap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Cold War in Dep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help us REALLY SEE what happened in the Cold War, we are going to look at our atlas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lease turn to page 116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8:07:43Z</dcterms:created>
  <dc:creator>Cecil County</dc:creator>
  <dc:description/>
  <dc:language>en-US</dc:language>
  <cp:lastModifiedBy>Cecil County</cp:lastModifiedBy>
  <dcterms:modified xsi:type="dcterms:W3CDTF">2008-12-02T19:31:21Z</dcterms:modified>
  <cp:revision>2</cp:revision>
  <dc:subject/>
  <dc:title>The Cold War   BRRRRR . . .  </dc:title>
</cp:coreProperties>
</file>